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BEB5-7903-4725-A195-53CA271B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A733-D7D9-4F08-AF57-924AD8CD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04FD-0DCA-4AA2-B51C-5CCA000E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2D2-096F-4BF6-9356-54F115F4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AB5C-D7E3-4487-B374-D65A73A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4DA-B9EF-4519-873D-CC40AC64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90B-6175-4BED-BB97-9553D22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6F4-0D64-4247-9567-A7E3BBC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7132-9B7B-4668-B8DC-25017EDF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DD7-5908-4732-9AE4-8B97DE35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CBA-FDB5-4011-8718-911B1E82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0B9B-0445-4F4C-9370-448ECC1A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C910-7B49-4FB1-9C70-DDE94BB2A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-457200"/>
            <a:ext cx="9144000" cy="7315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TE SI ANIM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TEJATE DE LE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ROM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RCI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ta delicata, creste 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rafete intinse in ‘’Poi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rciselor’’, atragand numeros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ubitori ai natur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-305280"/>
            <a:ext cx="9144000" cy="7162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Ras" descr=""/>
          <p:cNvPicPr/>
          <p:nvPr/>
        </p:nvPicPr>
        <p:blipFill>
          <a:blip r:embed="rId1"/>
          <a:stretch/>
        </p:blipFill>
        <p:spPr>
          <a:xfrm>
            <a:off x="-609480" y="-609480"/>
            <a:ext cx="10134360" cy="77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533520" y="-380880"/>
            <a:ext cx="10058400" cy="777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RSUL CARPAT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ieste pe stanci, in grote sa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 desisurile de moli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n locuri izolate, cum s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urile de va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80880" y="-305280"/>
            <a:ext cx="952488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urs" descr=""/>
          <p:cNvPicPr/>
          <p:nvPr/>
        </p:nvPicPr>
        <p:blipFill>
          <a:blip r:embed="rId1"/>
          <a:stretch/>
        </p:blipFill>
        <p:spPr>
          <a:xfrm>
            <a:off x="-762120" y="-990720"/>
            <a:ext cx="9906120" cy="861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609840" y="-686160"/>
            <a:ext cx="986796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ULTURUL PLESU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i construieste cuibul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incul stancilor sau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acii inalti. Se hranes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 cadav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533520" y="-914400"/>
            <a:ext cx="9677520" cy="7772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Vultur_gryphus" descr=""/>
          <p:cNvPicPr/>
          <p:nvPr/>
        </p:nvPicPr>
        <p:blipFill>
          <a:blip r:embed="rId1"/>
          <a:stretch/>
        </p:blipFill>
        <p:spPr>
          <a:xfrm>
            <a:off x="-914400" y="-990720"/>
            <a:ext cx="1005840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457200" y="-686160"/>
            <a:ext cx="960120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COSUL DE MU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te considerat podoab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ntilor Carpati, isi construie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ibul langa trunchiul arbori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-si hraneste puii cu semi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fructe de padure sa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guri de br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751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686160" y="-1143360"/>
            <a:ext cx="1036332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ocosDeMunte" descr=""/>
          <p:cNvPicPr/>
          <p:nvPr/>
        </p:nvPicPr>
        <p:blipFill>
          <a:blip r:embed="rId1"/>
          <a:stretch/>
        </p:blipFill>
        <p:spPr>
          <a:xfrm>
            <a:off x="-1143000" y="-1295280"/>
            <a:ext cx="102870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457200" y="-304920"/>
            <a:ext cx="9982080" cy="7467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ROP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boara foarte rar, nu se asa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ciodata in copaci. Se hraneste c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stari, seminte, insecte.O m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tem intalni numai 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ia Dunari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838440" y="-990720"/>
            <a:ext cx="10287000" cy="7848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ropia" descr=""/>
          <p:cNvPicPr/>
          <p:nvPr/>
        </p:nvPicPr>
        <p:blipFill>
          <a:blip r:embed="rId1"/>
          <a:stretch/>
        </p:blipFill>
        <p:spPr>
          <a:xfrm>
            <a:off x="-800280" y="-1066680"/>
            <a:ext cx="1043964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762480" y="-609840"/>
            <a:ext cx="10439640" cy="7467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LICAN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are migratoare, care cuibare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Delta Dunarii, la marginea stufari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urilor. Daca este tulburat in perioa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clocire si impiedicat sa vina la cui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i mult de o ora, el paraseste pent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tdeauna cuibul. La noi in tara 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la cea mai mare colonie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licani din toata Europ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457200" y="-457200"/>
            <a:ext cx="9601200" cy="7315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narcisa%202" descr=""/>
          <p:cNvPicPr/>
          <p:nvPr/>
        </p:nvPicPr>
        <p:blipFill>
          <a:blip r:embed="rId1"/>
          <a:stretch/>
        </p:blipFill>
        <p:spPr>
          <a:xfrm>
            <a:off x="-495360" y="-1295280"/>
            <a:ext cx="10134720" cy="84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533520" y="-533520"/>
            <a:ext cx="9677520" cy="7391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elican" descr=""/>
          <p:cNvPicPr/>
          <p:nvPr/>
        </p:nvPicPr>
        <p:blipFill>
          <a:blip r:embed="rId1"/>
          <a:stretch/>
        </p:blipFill>
        <p:spPr>
          <a:xfrm>
            <a:off x="-762120" y="-838080"/>
            <a:ext cx="990612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533520" y="-381240"/>
            <a:ext cx="9753840" cy="7543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ERIALUL  A F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LIZAT DE INV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ANCIU MARIO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. GEN.’’LUCIAN BLAGA’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VA JUD. HUNEDO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-268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533520" y="-762480"/>
            <a:ext cx="9677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LOAREA DE CO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alnita pe stancile muntilor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 imbie cu minunatele flo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be, cu petale catifel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-457200"/>
            <a:ext cx="9144000" cy="7315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floare-de-colt-comentariile-nu-isi-au-rostul-8_3" descr=""/>
          <p:cNvPicPr/>
          <p:nvPr/>
        </p:nvPicPr>
        <p:blipFill>
          <a:blip r:embed="rId1"/>
          <a:stretch/>
        </p:blipFill>
        <p:spPr>
          <a:xfrm>
            <a:off x="-533520" y="-1066680"/>
            <a:ext cx="967752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-533520"/>
            <a:ext cx="9144000" cy="7391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JORUL ROMANES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ta straveche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alnita in padu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457200" y="-762480"/>
            <a:ext cx="960120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ujor_romanesc-paeonia_peregrina" descr=""/>
          <p:cNvPicPr/>
          <p:nvPr/>
        </p:nvPicPr>
        <p:blipFill>
          <a:blip r:embed="rId1"/>
          <a:stretch/>
        </p:blipFill>
        <p:spPr>
          <a:xfrm>
            <a:off x="-990720" y="-838080"/>
            <a:ext cx="1013472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80880" y="-380880"/>
            <a:ext cx="9524880" cy="723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PRA NEAG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doaba Muntilor Carpati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alnita pe varfurile c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i inalte si prapastioa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ieste in turme care cuprin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la 6 la 30 de cap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apra%20negra" descr=""/>
          <p:cNvPicPr/>
          <p:nvPr/>
        </p:nvPicPr>
        <p:blipFill>
          <a:blip r:embed="rId1"/>
          <a:stretch/>
        </p:blipFill>
        <p:spPr>
          <a:xfrm>
            <a:off x="-838080" y="-685800"/>
            <a:ext cx="10287000" cy="79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S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ieste in padurile de dea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iua sta ascuns in desisuri,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orburile mari, din apropie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rumurilor umblate;noapte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curge zeci de km in cau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rane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7T19:38:41Z</dcterms:created>
  <dc:creator>pc</dc:creator>
  <dc:description/>
  <dc:language>en-US</dc:language>
  <cp:lastModifiedBy>pc</cp:lastModifiedBy>
  <dcterms:modified xsi:type="dcterms:W3CDTF">2007-05-07T20:54:22Z</dcterms:modified>
  <cp:revision>23</cp:revision>
  <dc:subject/>
  <dc:title>PowerPoint Presentation</dc:title>
</cp:coreProperties>
</file>